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78297"/>
        <c:axId val="46069224"/>
      </c:barChart>
      <c:catAx>
        <c:axId val="46878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69224"/>
        <c:crosses val="autoZero"/>
        <c:auto val="1"/>
        <c:lblAlgn val="ctr"/>
        <c:lblOffset val="100"/>
        <c:noMultiLvlLbl val="0"/>
      </c:catAx>
      <c:valAx>
        <c:axId val="46069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8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7E0-A7D6-4E8A-9969-F6D13CA8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5C7-FCD5-4484-ACAD-1E0A0EEC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A7C-B0F8-44B0-B695-BA7657D8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921-1CB8-45CF-A674-F25152BB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0BC-14AE-4D8B-BC1D-BC5F299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AFB-1D30-442C-A440-8FC268D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F3D-0636-4C52-B542-3E4EB73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CDC-2404-469C-A1A7-5E4D771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571-BF2D-4B82-A275-6C37374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BFA-3E5C-4C9C-B154-A9D439A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F8A-1FAE-49A6-9401-8B8E0BC2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B43-BA8C-46D5-8E95-E9CAB021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CFB31-7A5C-4359-A834-817AD2C8BA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