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99779"/>
        <c:axId val="92961325"/>
      </c:barChart>
      <c:catAx>
        <c:axId val="875997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61325"/>
        <c:crosses val="autoZero"/>
        <c:auto val="1"/>
        <c:lblAlgn val="ctr"/>
        <c:lblOffset val="100"/>
        <c:noMultiLvlLbl val="0"/>
      </c:catAx>
      <c:valAx>
        <c:axId val="92961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99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99E-1F45-471C-822F-839CD26B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13D6-16BC-4F53-9C71-D634ED26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A57-5288-469B-A95A-18997570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3BA1-1C1D-4114-9461-CA9AF472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29D9-C19F-44F6-AB37-6B881C05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7FA-988A-4695-9C6D-701CB185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109-B6F6-4A15-92BF-F24B9413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E4E-2D34-4D33-8FD7-1B0F5950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2B44-BEA6-4DF3-AA6A-4E77B895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FF5C-9087-43CE-927E-3F75A952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69F-0E7D-4BB0-8A1E-55AE94AF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196-2529-4A87-BAF9-FD2BF28C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6A81E-2C6F-4708-9728-32389374EB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