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02958"/>
        <c:axId val="3739174"/>
      </c:barChart>
      <c:catAx>
        <c:axId val="58302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9174"/>
        <c:crosses val="autoZero"/>
        <c:auto val="1"/>
        <c:lblAlgn val="ctr"/>
        <c:lblOffset val="100"/>
        <c:noMultiLvlLbl val="0"/>
      </c:catAx>
      <c:valAx>
        <c:axId val="3739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02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F44-4312-40AE-BBC1-957D4F21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EA4-B522-4252-BDEF-AA4AE2A9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4EA-5352-4CDC-9791-68FDEB69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C71-FCEB-48B9-B59C-B8945DCC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651-9353-4E35-8C0C-6BA8AF17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36A-2F2A-45BB-A2EF-E816C973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A53-F892-410F-92D3-D822F22E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C22-9B88-4329-91F4-202A8576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396-A6EF-4E1B-B6B6-5CBFC2AF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FD1-D054-4D84-B7F8-55C66675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D8B-F2FD-468B-9E6D-ABDD50AC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EA2-CB4D-4C6D-95D1-092F9BD0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F9BF6-3008-4100-A4FD-8B1B4A186A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