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50157"/>
        <c:axId val="18820797"/>
      </c:barChart>
      <c:catAx>
        <c:axId val="42250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20797"/>
        <c:crosses val="autoZero"/>
        <c:auto val="1"/>
        <c:lblAlgn val="ctr"/>
        <c:lblOffset val="100"/>
        <c:noMultiLvlLbl val="0"/>
      </c:catAx>
      <c:valAx>
        <c:axId val="18820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50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6BC-9760-4B5E-AD71-9B86209B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A7F-EED5-4B69-AEBF-729B2780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E80-70D8-4CAC-ADEF-DA46A1D4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998-21B0-4576-B9F7-A7DD07EA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D55-1992-4671-A05D-9990FDF2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FED-0804-4025-8553-AB19994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12B-EB5B-47BF-AADF-E46250A5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1FF-8F5E-44EC-B2EF-F1E00B72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4D7-9445-47C2-BC42-F5B92EDA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185-10C7-4DD5-A63D-6A6BA84E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37E-087D-4474-893B-2AF9FC1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CED-F2F1-4E2C-AC3D-A42C698F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975D4-96EC-4979-9EBE-0863629D21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