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95737"/>
        <c:axId val="58980498"/>
      </c:barChart>
      <c:catAx>
        <c:axId val="22595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80498"/>
        <c:crosses val="autoZero"/>
        <c:auto val="1"/>
        <c:lblAlgn val="ctr"/>
        <c:lblOffset val="100"/>
        <c:noMultiLvlLbl val="0"/>
      </c:catAx>
      <c:valAx>
        <c:axId val="58980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95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02B-26A8-4B23-B3E1-6C5628DB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7E7-D3C7-41B9-AD5A-982D3322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1D5-4687-4989-941B-5F67B269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888-E4EC-4E0E-BB3D-4BD59B11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9FF-48E5-4938-9D0E-ED058A0B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4EF-3CD9-42B9-BD16-BC112B7C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37D-F684-4750-95C1-F61E8422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029-998D-41A2-B142-BC775484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8C0-9592-44DC-A6C6-1E4D0216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8C6-0156-4CFB-8ED8-5689EFD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F9D-432A-4F7A-955F-6E3CB7F0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8BD-1932-43B9-B548-76F393D7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989CA-C0E2-44C0-B95B-72C25D3D30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