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88934"/>
        <c:axId val="17972809"/>
      </c:barChart>
      <c:catAx>
        <c:axId val="21388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72809"/>
        <c:crosses val="autoZero"/>
        <c:auto val="1"/>
        <c:lblAlgn val="ctr"/>
        <c:lblOffset val="100"/>
        <c:noMultiLvlLbl val="0"/>
      </c:catAx>
      <c:valAx>
        <c:axId val="17972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88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B67-1205-4C5A-A6E5-918D1FBC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812-7525-47B4-B65D-F89E3E19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67A-899F-4ED8-B804-15476A3D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4DC-60B7-4210-AA63-04495201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54C-E233-4633-B100-96A93938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F7D-B92C-4862-8AEE-3CB2C5AB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CE5-66DC-4479-8AF6-C686A7E7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15D-7DE2-44AA-A820-B7EC57C2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6EE-7542-4C28-800E-6556B530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9E9-8769-4B86-9A08-07FD90E4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B49-94A4-4CE3-A505-2522D42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055-FF05-4219-BE0A-5031166F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5136F-143B-4232-A3C9-EA5BB65F95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