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90059"/>
        <c:axId val="81937084"/>
      </c:barChart>
      <c:catAx>
        <c:axId val="87590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37084"/>
        <c:crosses val="autoZero"/>
        <c:auto val="1"/>
        <c:lblAlgn val="ctr"/>
        <c:lblOffset val="100"/>
        <c:noMultiLvlLbl val="0"/>
      </c:catAx>
      <c:valAx>
        <c:axId val="81937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90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037-7008-44A8-BB89-6D9CC9C6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4EC-B77D-465F-A853-57F83941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FDC-37FB-4401-8985-E8A82568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D09-83D5-4A2D-A475-02FFC1AE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BB3-CB0E-4816-B583-2389C18D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FA6-A8F2-4F3B-84F6-C7405633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8AB-536F-4CA5-A743-E67D0392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3D9-B970-4BE9-8425-76F8C72A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30B-3094-4CC3-A4C1-AF7A44AB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F58-651C-41FF-A211-80D1AA0C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3CB-DE8C-4A3C-B3E1-CE1C7069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E61-2211-4A3F-AAF6-67576FD5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B66C1-1EB5-4410-AE22-4C2855D718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