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99654"/>
        <c:axId val="87116532"/>
      </c:barChart>
      <c:catAx>
        <c:axId val="55399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16532"/>
        <c:crosses val="autoZero"/>
        <c:auto val="1"/>
        <c:lblAlgn val="ctr"/>
        <c:lblOffset val="100"/>
        <c:noMultiLvlLbl val="0"/>
      </c:catAx>
      <c:valAx>
        <c:axId val="871165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99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858E-939F-47B4-923F-8A8093F7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2DB5-4736-4B13-ACFC-814CB03A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402-0A15-47A8-B617-9299C437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1A11-3C35-4BBB-8DFA-ED7C2158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B365-A20C-4A18-8B10-C57CF855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014D-87BD-4C05-9BE2-D20AA85F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A97D-44D3-4521-ACBC-C133CC07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1E8F-7BBE-4CC0-BA26-7C2682B4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ADB-F491-4E01-94D8-D240F20C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0896-8B2F-406B-9798-F3D09EB4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D989-30B2-4FB7-B410-D3F4FD40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070-439F-4898-AF45-657F8C97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54155-799D-4A52-BF01-F6064AB729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