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11866"/>
        <c:axId val="30111975"/>
      </c:barChart>
      <c:catAx>
        <c:axId val="25011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11975"/>
        <c:crosses val="autoZero"/>
        <c:auto val="1"/>
        <c:lblAlgn val="ctr"/>
        <c:lblOffset val="100"/>
        <c:noMultiLvlLbl val="0"/>
      </c:catAx>
      <c:valAx>
        <c:axId val="30111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11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0D3-574B-45A0-9ED8-9C6D669B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FE1-F8B2-4430-9535-E5BB4B8A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963-67E5-4D3D-AE02-7C4A15ED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6E0-33FC-4BA3-AE3A-43A9FA6E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E71-ED57-4AF6-8FB2-612B33A7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DA78-1EF0-4CF5-9393-D8A617DD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E81-B5F8-4B14-B9BB-7666BC0D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120-D00A-47CF-9FFC-354A73DC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FA0-F73D-4402-979F-909D259A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933-8400-458E-B466-24729891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F4C1-0E0D-41B1-AA74-44964E9A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9A49-74A3-4A46-B1F8-C650E59E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58832-1483-4447-993F-A189BBD9BC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