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42489"/>
        <c:axId val="76569742"/>
      </c:barChart>
      <c:catAx>
        <c:axId val="80342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9742"/>
        <c:crosses val="autoZero"/>
        <c:auto val="1"/>
        <c:lblAlgn val="ctr"/>
        <c:lblOffset val="100"/>
        <c:noMultiLvlLbl val="0"/>
      </c:catAx>
      <c:valAx>
        <c:axId val="76569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42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17F-7A69-4AEB-9858-83C363EC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17A-DAD3-4305-B7CA-F6FDAA4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D47-D073-48EE-8C68-F3F7278C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E10-5E94-4F89-8D77-F109BABA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066-ED13-4789-A450-088A9253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32B-229C-4A84-A3B6-77F239A3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66C-6C7B-468E-B239-871E94F4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A69-31E8-44AA-89AE-1849879F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28F-F6D3-4FDA-A089-00903B8F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F63-09D2-44F2-BB73-60B0719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F4A-BBDC-4C5F-939A-365EF0F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B8E-1C5F-43C5-8164-D76FA0E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1E25D-6A33-40BD-AED8-817513E51D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