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407246"/>
        <c:axId val="92536447"/>
      </c:barChart>
      <c:catAx>
        <c:axId val="340724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536447"/>
        <c:crosses val="autoZero"/>
        <c:auto val="1"/>
        <c:lblAlgn val="ctr"/>
        <c:lblOffset val="100"/>
        <c:noMultiLvlLbl val="0"/>
      </c:catAx>
      <c:valAx>
        <c:axId val="9253644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0724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0A7A6-B101-4D2E-A24E-E0A3612F8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0F4D6-86E8-43AD-857F-67CC0B34F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F2BE8-2E0C-4F99-B412-6D2E08225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81E35-A233-436E-A7F6-CB7BD342A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FDDD7-8D90-441A-97AD-4DB166EC9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7862C-CC14-4CCF-9B0D-5C9F290F5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37FE2-90A5-4380-84E4-BDCF5116D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67B41-FDFB-4666-949C-248A428F0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16617-C369-4FDE-A137-B198A6AC3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C5664-A5DE-41CD-88B9-A06B2F08A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BE317-0BC0-48EF-B090-B2817B308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0AA38-EF01-47A9-8615-C12965272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A2DC63-26C5-4BBF-B4A3-F04C96A1BA1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