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26926"/>
        <c:axId val="91200218"/>
      </c:barChart>
      <c:catAx>
        <c:axId val="43226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00218"/>
        <c:crosses val="autoZero"/>
        <c:auto val="1"/>
        <c:lblAlgn val="ctr"/>
        <c:lblOffset val="100"/>
        <c:noMultiLvlLbl val="0"/>
      </c:catAx>
      <c:valAx>
        <c:axId val="91200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26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66C-8AA3-4D74-8D06-D8F7131D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6B8-0239-4971-BD7B-01395C00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27F-8856-46E2-A5D2-05622392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CCB-8DD5-4798-A9BC-0CB4F882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791-4AD2-4CC8-89ED-D48923BD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B7A-5DA7-4830-A140-15DF585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140-878A-4B72-ADF6-DC28FD05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FBF-0803-4A86-9860-B62CFE33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3DB-888D-4ADA-9394-75F024D8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04A-FBBE-464C-A7D1-4415D70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A2D-C4AB-4C49-85DB-3773AEAB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8BD-BAF9-4916-8355-B02B352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BEAFF-D2BA-4F0B-89D1-3455C1963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