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73212"/>
        <c:axId val="99557013"/>
      </c:barChart>
      <c:catAx>
        <c:axId val="68173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7013"/>
        <c:crosses val="autoZero"/>
        <c:auto val="1"/>
        <c:lblAlgn val="ctr"/>
        <c:lblOffset val="100"/>
        <c:noMultiLvlLbl val="0"/>
      </c:catAx>
      <c:valAx>
        <c:axId val="99557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73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2C4-E5E5-46CC-9019-AFF9DAC0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3D8-2560-4A0C-B98A-797B7A49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4BDB-0FE4-4A8E-B1D6-3B1FD4A2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132-7DFB-4E22-BBFC-D17A1907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CC3-A17B-49D2-8C22-47CA97DA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264-28A0-4815-A721-ED53F4D1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DD-9B0A-4747-95D1-B340B129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A36-A3F0-46BA-8D7F-98D7681D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16E-B984-42D3-9E01-42E0D961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CC8-EF73-49F6-99E0-26C82F7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C6D-468B-44DD-B2EE-DD79AEB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375-6323-4102-8904-D9521A38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B2599-CF59-4D6E-9EE3-A3054DFBD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