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99501"/>
        <c:axId val="27833000"/>
      </c:barChart>
      <c:catAx>
        <c:axId val="50399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33000"/>
        <c:crosses val="autoZero"/>
        <c:auto val="1"/>
        <c:lblAlgn val="ctr"/>
        <c:lblOffset val="100"/>
        <c:noMultiLvlLbl val="0"/>
      </c:catAx>
      <c:valAx>
        <c:axId val="27833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99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2DF-C580-4634-82A8-1F7C05C4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4EB-84E4-45E4-84E1-7C430120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12D-BAD0-4CDB-82FB-3103EF99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434-5F36-48A6-A744-4C979AA3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8AD-4CC6-4995-A687-3F6D71D8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8D8-EB65-45EE-AC55-16394247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BFE-5034-433A-AC0B-93C433F7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F7F-0601-46F8-8B04-76F22AD9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450-AAD4-4629-9BAD-C437E17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B14-8ED8-49EF-BD06-3E38392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3F2-C651-4346-AA6B-F74671C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731-EC4E-4F58-B9F3-7084E76A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3DF0B-F89F-40F8-AAF8-36469406AB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