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960283"/>
        <c:axId val="44942570"/>
      </c:barChart>
      <c:catAx>
        <c:axId val="419602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42570"/>
        <c:crosses val="autoZero"/>
        <c:auto val="1"/>
        <c:lblAlgn val="ctr"/>
        <c:lblOffset val="100"/>
        <c:noMultiLvlLbl val="0"/>
      </c:catAx>
      <c:valAx>
        <c:axId val="449425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602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7A05-B629-4E90-A80E-B843870F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B6C0-408D-402E-A072-25B26179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87D-C25E-4951-89C5-AE273730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4D0E-DF38-44B3-AC01-403C1A7C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7BE3-BA86-4F37-BEFA-16B909EA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679E-C583-4A2E-87F6-91AA31E1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B913-F84E-4451-A397-F2F13D34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E7B8-7E57-4B0E-BAE8-468B9C1B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7749-F8D2-4C55-A2AE-E8854E80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1AFC-BA72-4E0C-875C-6DA8178E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B61E-0C61-4E6C-8636-0D3F1233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ACF7-598F-43F9-84AB-121D40E1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B4FAD-EC17-4C87-8ADA-A9DB19A6AD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