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58288"/>
        <c:axId val="70136387"/>
      </c:barChart>
      <c:catAx>
        <c:axId val="28758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36387"/>
        <c:crosses val="autoZero"/>
        <c:auto val="1"/>
        <c:lblAlgn val="ctr"/>
        <c:lblOffset val="100"/>
        <c:noMultiLvlLbl val="0"/>
      </c:catAx>
      <c:valAx>
        <c:axId val="70136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8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279-1A7D-4EA9-8E26-374DE37A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770-24EF-4F23-BA71-EDB781F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F29-E47D-48CA-A360-9E8E87EF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1A6-26F5-43B8-9BF1-29AFF3D8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789-7EE4-4E9B-86FA-EE2F0C6B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C43-E8B2-4CB1-9A10-AB5A9A82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E63-CA62-4E5D-A36C-A0255DA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EAF-5775-4A57-AA69-903AE80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82E-4A0A-4172-8726-FC46FD0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826-0C86-4D55-A07C-83B419CD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A67-E732-4071-89DC-03B17F3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D18-85A7-464C-9F2F-00A021A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55911-3C2D-4E6F-9888-E24CB7814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