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40608"/>
        <c:axId val="88045665"/>
      </c:barChart>
      <c:catAx>
        <c:axId val="645406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45665"/>
        <c:crosses val="autoZero"/>
        <c:auto val="1"/>
        <c:lblAlgn val="ctr"/>
        <c:lblOffset val="100"/>
        <c:noMultiLvlLbl val="0"/>
      </c:catAx>
      <c:valAx>
        <c:axId val="88045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406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51F3-0484-4717-9B80-E1712205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A420-D18D-4936-AE69-84E7D52E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6D6-1118-447B-B52E-6DA193DF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3572-5E94-4810-8E32-18DD0490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BDC-FC6C-4603-82AF-DADC7521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435-001C-4C43-9FD9-2A78D07F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91B7-902F-4328-A4FE-9C722123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E9D6-4495-4521-ACD8-AB45E468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88EE-56F9-4023-BD37-E39B6B5F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F02-6C63-4F5F-B1B1-476776A1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B9F7-AFFD-4943-A573-A92848DE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308-3479-4BAF-94E7-E6C43D6C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1EA42-20D3-48A0-8628-4FF6790F99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