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93215"/>
        <c:axId val="6960155"/>
      </c:barChart>
      <c:catAx>
        <c:axId val="55593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0155"/>
        <c:crosses val="autoZero"/>
        <c:auto val="1"/>
        <c:lblAlgn val="ctr"/>
        <c:lblOffset val="100"/>
        <c:noMultiLvlLbl val="0"/>
      </c:catAx>
      <c:valAx>
        <c:axId val="6960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93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670-30C5-4CB2-B1C7-6263B9D6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76B3-9026-492E-BD9C-DADCB4E0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9DA3-D89E-4811-8200-91CEA56F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C71E-B038-4C65-A1FD-29BA3BC3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A06-6A32-4487-8E72-3D151295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1D75-CA99-4D8C-9809-C98470E8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3AE-C1EF-4AA8-9D16-AF4914AD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40A-E380-474E-B7BD-026CF4E5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CBE4-B988-466C-836F-D6188F9D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7ED-B3F2-4602-885F-D524DE6B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6306-78FE-471C-97FE-BC4E1AA7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1203-50A7-443F-AAAB-B6CEFBFE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52F62-58DC-496F-BC3F-2C21F69199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