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4234"/>
        <c:axId val="95595031"/>
      </c:barChart>
      <c:catAx>
        <c:axId val="7924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95031"/>
        <c:crosses val="autoZero"/>
        <c:auto val="1"/>
        <c:lblAlgn val="ctr"/>
        <c:lblOffset val="100"/>
        <c:noMultiLvlLbl val="0"/>
      </c:catAx>
      <c:valAx>
        <c:axId val="95595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4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D88-4BDD-4ACD-8348-3302EED0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684-0955-49E9-A14F-888D72FA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64F-A3E5-4E51-BEDF-B97E7496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BD0-2045-4600-B852-D32F1860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706-D919-4737-A522-4494D886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812-5F09-4CAA-AB3F-D2465636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9C2-ADA2-4334-8F45-1FCACFE2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A53-8270-4FCC-9589-DC868321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79C-86A2-4C39-914D-D7F7ACA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CBD-2176-4D14-9D4C-75D59640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5A1-038F-4E35-ACA5-B80799CE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B4E-8E75-405F-949A-13EE5929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FCC5A-98B6-48F9-A840-9360F4E0F2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