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85851"/>
        <c:axId val="6661010"/>
      </c:barChart>
      <c:catAx>
        <c:axId val="13785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1010"/>
        <c:crosses val="autoZero"/>
        <c:auto val="1"/>
        <c:lblAlgn val="ctr"/>
        <c:lblOffset val="100"/>
        <c:noMultiLvlLbl val="0"/>
      </c:catAx>
      <c:valAx>
        <c:axId val="6661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85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312-758C-496D-9319-EB5B6012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9DB-32BD-4292-BD22-94669AD6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254-AA22-4EA3-A4D6-6D101B0A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910-4739-4ED8-BEB4-C0075B13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D01-2414-4DB3-BA37-F3D69FBF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F59-36E7-4E00-B67F-80F82E1D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ACA-BFC4-48FA-8B04-7860E807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E1B-5FEA-41C8-ABF2-999D70D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2A7-675D-4EBB-8555-3D9F6380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27F-2A4C-448E-B0D6-5D54A735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4EB-F05A-4EF7-91C1-2B8D170A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885-5A79-4DAC-A518-E63959DF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17E69-D60D-4066-872B-A1241C27A2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