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81018"/>
        <c:axId val="77124030"/>
      </c:barChart>
      <c:catAx>
        <c:axId val="31381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24030"/>
        <c:crosses val="autoZero"/>
        <c:auto val="1"/>
        <c:lblAlgn val="ctr"/>
        <c:lblOffset val="100"/>
        <c:noMultiLvlLbl val="0"/>
      </c:catAx>
      <c:valAx>
        <c:axId val="77124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81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B19-625C-4982-A938-11DE130E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96C-217E-40AB-B82A-BF699BC8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2D8-6D94-4D97-B413-DACCF652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68E-E363-48F3-8B53-C41A6748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267-FCF9-43D7-BBDA-3FB26A14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2D3-6CF0-4AEA-8CD2-6DE780C6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D8F-FC62-47E3-83B1-97C865AC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4C3-B483-4B29-B46B-DF938F19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360-2C8E-4CF5-84E3-517891B6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F02-DEC9-4E3E-9BCF-36980EFC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1C7-C343-40B0-A789-A4739FB4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25A-9BFF-4BED-9CE3-37A031D0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D667D-4D77-4DD6-A5D5-51A28A6A00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