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96339"/>
        <c:axId val="84491430"/>
      </c:barChart>
      <c:catAx>
        <c:axId val="84696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91430"/>
        <c:crosses val="autoZero"/>
        <c:auto val="1"/>
        <c:lblAlgn val="ctr"/>
        <c:lblOffset val="100"/>
        <c:noMultiLvlLbl val="0"/>
      </c:catAx>
      <c:valAx>
        <c:axId val="84491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96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981-BEB5-459B-9ABE-290910ED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794-59A0-45E8-BBD1-3815DDC6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004-F11C-4EBC-8457-27107080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E33-027B-48A6-9781-3261B693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ABB-6FFA-4EC4-8259-4F36A23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0FD-567B-4F79-B8E3-752B4087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A00-EBDA-45B6-8C43-24B6930E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396-0F63-46C6-8DD9-0661533A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97E-E633-42ED-8D5B-3D383CE3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3CF-7EA5-4B7E-BFDD-1B0F15D1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080-BF0A-4897-B1D4-2C3FF42E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11B-0FE9-4D2E-9417-8C548FB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4B63F-7CB2-4318-B8EE-707100A1E7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