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282"/>
        <c:axId val="48831515"/>
      </c:barChart>
      <c:catAx>
        <c:axId val="411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31515"/>
        <c:crosses val="autoZero"/>
        <c:auto val="1"/>
        <c:lblAlgn val="ctr"/>
        <c:lblOffset val="100"/>
        <c:noMultiLvlLbl val="0"/>
      </c:catAx>
      <c:valAx>
        <c:axId val="48831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861-0142-40C8-A349-E4B6FF17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C9D-343C-4264-8D95-420563B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1B5-D14C-4766-ADAC-0151FAE5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555-6FD4-4006-A01C-5E525C59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B4B-FA22-40C0-84AF-1BF8CF97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51D-C569-45C9-AE57-1967DA8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217-1AFA-4CCB-ACEE-0FF3A552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9B3-A43E-4CAA-B8CA-0BEAB86F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0E8-F9EE-40EB-9106-9E1EE16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429-C0CC-4579-92D9-B339EC6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9B5-645B-4289-BF25-805B537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8D2-5D7C-49B8-BE7C-D01B9B0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C37DB-2447-4DA1-BE2F-5EF0251A0A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