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06175"/>
        <c:axId val="62742405"/>
      </c:barChart>
      <c:catAx>
        <c:axId val="63106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2405"/>
        <c:crosses val="autoZero"/>
        <c:auto val="1"/>
        <c:lblAlgn val="ctr"/>
        <c:lblOffset val="100"/>
        <c:noMultiLvlLbl val="0"/>
      </c:catAx>
      <c:valAx>
        <c:axId val="62742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6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158-2655-4953-A48F-3D4B4454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3A2-8784-4479-BB3F-8105338C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F81-9A32-4025-8674-7A6B87A1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22B-0D53-4D22-97FF-68C06AB2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998-367D-47E2-8619-935A298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A0A-9E5C-4901-8EE3-2173A83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AB9-51AB-4C2C-844C-4EDC84B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16D-6714-4080-BF12-CA3AE7E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ACF-5128-47B5-9CD2-72BF2355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AF9-55F5-4B12-A6E4-2EEE80D3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8E0-D80D-4644-9985-8164851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A70-A059-4457-B8D3-D328C5E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81684-405A-4056-A662-63E6BF9294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