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089"/>
        <c:axId val="66662729"/>
      </c:barChart>
      <c:catAx>
        <c:axId val="970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62729"/>
        <c:crosses val="autoZero"/>
        <c:auto val="1"/>
        <c:lblAlgn val="ctr"/>
        <c:lblOffset val="100"/>
        <c:noMultiLvlLbl val="0"/>
      </c:catAx>
      <c:valAx>
        <c:axId val="66662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5FB-D018-4C14-95F8-17E146AF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2F9-4445-4939-A9A3-D53B3F1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EAF-9E29-413E-8D60-55BD541E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434-0764-4994-B53B-33789921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D8B-F3D4-4955-A036-BAB68D9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4D2-292A-45EB-9325-9B969785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7F4-E483-42D2-B67A-B6D13BE9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D34-34A6-4494-A3C6-151C6B2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94A-CC38-4E68-B903-3382FD9E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46C-4368-427B-BF6D-33821F4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F3D-FEF1-44B9-9246-7A3B7206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191-BE2A-4A80-B1BA-0A6843B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2985B-2583-4D89-989D-0171583FA5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