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018334"/>
        <c:axId val="92628328"/>
      </c:barChart>
      <c:catAx>
        <c:axId val="77018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28328"/>
        <c:crosses val="autoZero"/>
        <c:auto val="1"/>
        <c:lblAlgn val="ctr"/>
        <c:lblOffset val="100"/>
        <c:noMultiLvlLbl val="0"/>
      </c:catAx>
      <c:valAx>
        <c:axId val="926283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18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EE6-85C1-4571-8FBB-59BFFB47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FC0-04F6-4F9D-8977-1196F86F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40EC-E9DA-4518-AB84-B6DBE5EB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A9D0-33F7-4FA2-A818-2B17A81F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3785-E94C-4566-B0F2-83F0BE88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A1DF-8A1E-4F76-B06B-A3B3FE68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31B-314C-4855-B83F-AA1DA935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BEC-A93E-4B03-A709-F5E48490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9A8-254C-4D34-8BAA-46B2104B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6B30-6E3A-4F18-9E9A-70B5DD86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CB55-8403-4AF0-ADA4-355E011A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78C0-CF95-4629-9381-ABD4630B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CCF1D-A805-4D70-9AF7-0E6F2C9533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