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29075"/>
        <c:axId val="62370303"/>
      </c:barChart>
      <c:catAx>
        <c:axId val="69129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70303"/>
        <c:crosses val="autoZero"/>
        <c:auto val="1"/>
        <c:lblAlgn val="ctr"/>
        <c:lblOffset val="100"/>
        <c:noMultiLvlLbl val="0"/>
      </c:catAx>
      <c:valAx>
        <c:axId val="62370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29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85F-9152-4042-A645-DF715E87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5FD-321F-4F3F-A8CF-A94FA418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9AC-937D-4C99-BF67-D3B3E7EF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171-7563-41C3-A59E-11621126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E80-E9DC-4505-9E88-165102BD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C60-086F-4EDE-958D-B5F83DA2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6D4-0EEB-44B9-ACEF-11A90E7F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73A-DF80-4190-9CBD-1FCAB4F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BAA-DF93-4D3D-B0D3-5A01BA3C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B98-284F-43AB-A7DE-58060FF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992-A978-4CD9-A661-71B34CBC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D0C-D8BB-4F57-8F54-B4490A4B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42161-5372-4B84-B487-CCAEDEF4B5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