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999721"/>
        <c:axId val="95138347"/>
      </c:barChart>
      <c:catAx>
        <c:axId val="649997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38347"/>
        <c:crosses val="autoZero"/>
        <c:auto val="1"/>
        <c:lblAlgn val="ctr"/>
        <c:lblOffset val="100"/>
        <c:noMultiLvlLbl val="0"/>
      </c:catAx>
      <c:valAx>
        <c:axId val="951383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9997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D0D7-00CB-4EF9-B398-77D85815E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58E9-D7A6-40A9-AEBE-28F36B31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5D0C-91C4-4B6F-BEC3-451DC3B41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CC15-70E1-4DB1-AA42-16979061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6BDE-8A3A-4C03-AD4E-F2D58631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23B4-AEAC-413A-9932-C2056ECC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0155-31CC-42B2-BE41-204D881C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CA15-44F1-43CD-9597-076DD698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25C4-E1C6-4DDE-B9D0-3E919AA2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98C6-8C7F-4143-B25A-948BB017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AA86-81A9-4A8F-A585-9B2936C2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9F42-3AA7-47A2-8974-D74B6EB2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EA184-EEDF-4A95-8E15-E5AA93C5EC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