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043163"/>
        <c:axId val="82578770"/>
      </c:barChart>
      <c:catAx>
        <c:axId val="46043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78770"/>
        <c:crosses val="autoZero"/>
        <c:auto val="1"/>
        <c:lblAlgn val="ctr"/>
        <c:lblOffset val="100"/>
        <c:noMultiLvlLbl val="0"/>
      </c:catAx>
      <c:valAx>
        <c:axId val="82578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43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1EF-A93C-4975-A9D8-6A2A523B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67FB-B443-48D7-839A-0F576C00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D9F-F794-4C66-805E-6012F336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7482-CE93-48B3-AD82-B59BBACB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3F2-F314-441F-A969-05B4B439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5E4-41C4-45AF-9E30-5C00F592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4F0-1DA2-4FA1-B769-32BD9E63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9237-839A-476D-B4BE-97776E4B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981-65C9-4F1D-9AC9-7EB08C29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74B8-3FE8-4E4A-9A05-4F7028DB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9AD-3B83-4062-AD39-59C3754D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4E9-535E-45B1-BA4B-8712817E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B1573-4463-47D0-8E2B-50D39231D0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