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36436"/>
        <c:axId val="96445427"/>
      </c:barChart>
      <c:catAx>
        <c:axId val="73136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5427"/>
        <c:crosses val="autoZero"/>
        <c:auto val="1"/>
        <c:lblAlgn val="ctr"/>
        <c:lblOffset val="100"/>
        <c:noMultiLvlLbl val="0"/>
      </c:catAx>
      <c:valAx>
        <c:axId val="96445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6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F1A-9BA7-4DA9-A0FD-A638A0AB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67A-2EEE-4A82-A59E-E35393D8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1AB-C710-4E1D-B86A-398AED02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AE1-FC89-4F25-B980-0C076C4C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D9E-02FA-4ABC-8568-A9DAFB9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33A-FCA2-4D7C-B0FF-C0081DB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1D0-4FF9-43DA-B9EF-F0A1385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26E-7552-4A46-A29A-9E5F07D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3C2-AC5F-47D8-81C4-71923093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5E0-CFD2-4674-850A-200890D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E10-07B0-4014-974B-3D61FD8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D85-1786-4400-B584-6BF57CA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4FBC2-D3D4-4687-8317-C1798E85C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