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78918"/>
        <c:axId val="57906495"/>
      </c:barChart>
      <c:catAx>
        <c:axId val="74778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6495"/>
        <c:crosses val="autoZero"/>
        <c:auto val="1"/>
        <c:lblAlgn val="ctr"/>
        <c:lblOffset val="100"/>
        <c:noMultiLvlLbl val="0"/>
      </c:catAx>
      <c:valAx>
        <c:axId val="57906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78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622-C44B-4190-B09A-1D33EE9F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FC7-B8A5-4AF5-B4B5-DAE2A5A5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148-ABBF-4E1A-8A0F-4CC0F9C8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15E-8204-4BA8-91BD-DACD4287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0C1-FD21-4730-BFCD-9506C00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0D1-E590-4BD2-AB08-6E2BAC4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26D-F13F-487A-9F01-7180994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E64-7F43-453F-91A1-EAA3DE4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243-525A-41CC-A9E9-B2F7DA8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5A9-712F-4740-A8A5-8799799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DEF-2F2F-45C2-B4DD-79BFFE6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0F0-D99F-4125-9EEF-7433E44D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A29E-5FB1-4441-B2FA-6CC27EC50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