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479334"/>
        <c:axId val="62119324"/>
      </c:barChart>
      <c:catAx>
        <c:axId val="294793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19324"/>
        <c:crosses val="autoZero"/>
        <c:auto val="1"/>
        <c:lblAlgn val="ctr"/>
        <c:lblOffset val="100"/>
        <c:noMultiLvlLbl val="0"/>
      </c:catAx>
      <c:valAx>
        <c:axId val="621193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793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54CE-4579-4A94-82B4-6F33B1B7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39A7-D551-4716-ADEF-D834EFE2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3F03-4623-48BE-BF2B-63A722BB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7217-3AFA-46B6-B481-6B94B62A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36E9-F56A-4DFE-A423-CDFF6F05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7335-4097-4C83-925B-6A6EFB23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8660-5483-436E-B243-AAACE4F9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91BB-9CF6-4F28-A97D-C9D2DE62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E836-4BA1-4F37-BE3D-3A0A4B3D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B03F-BE1E-4F9E-830D-DB976DFB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0062-847E-45CA-B996-D5E3A3C5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F649-6962-4B37-97A9-0DF38FAA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0227B-8DC1-45AF-A34A-8DA78E3ECE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